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4D6B0-5DFD-4372-9198-E8A4A1AE0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331E8-3ED4-40B6-B9CB-F5B81ECB0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9FA35-910D-4922-80EB-2C26D1C97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43F3E-8AF1-4BBA-89F6-2A76B36F9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CD3A4-2D46-4D03-8004-64E212DA6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8DD22-3873-4C99-B43D-FCBF2CCC0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40058-C00E-4E2A-A70E-942468122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345F5-7F44-4555-89CD-77A7331B0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0E750-A1EE-4086-9F66-A5999FC40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0654B-9F53-4192-864E-F52FEC582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B7973-FD1F-4768-A74B-E0146A452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D27FD-AFC2-4996-9116-6EDBDED57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54C7E-89AC-4B7E-A115-F05F58D0C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B762D-D201-4710-9175-18DAAE89B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DAFF5-F220-4A65-8BA4-A966F9B51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8E050-754E-4760-8709-F7A37BB2B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AF666-3F83-4E2D-BE17-332055E1B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91BF8-D80C-470D-9985-570BA1627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07B3C-C6F7-488A-807B-241B2445C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E7AFE-4EFE-412D-9160-9FF3FC238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081B7-A81F-4C26-963D-51D0ED46E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C4E5C-8C5A-43E9-9703-61F890C77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03A7-C6A1-40BD-BEF4-78CD6E45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61A1-FA67-4D24-B5B8-E847B157D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DE98-58A8-41A1-B61F-51871CD032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523B-E409-4D7C-9143-1929DA8E4F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3160"/>
            <a:ext cx="7772400" cy="19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Laptops in the Classroom Improving Student Achievement</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elanie Da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T 604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Fishbur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itiative Proposal</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ptops for student use to support classroom instruction and improve student achievemen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both state and ISTE technology standards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professional development for staff regarding laptop use in the classroo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technical and curricular support for teacher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 review of student data for evaluation purposes and for focused instr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15328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ros and Cons for Laptop Use in The Classroom</a:t>
            </a:r>
            <a:endParaRPr b="0" lang="en-US" sz="2800" spc="-1" strike="noStrike">
              <a:solidFill>
                <a:srgbClr val="ccecff"/>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17" name=""/>
          <p:cNvGraphicFramePr/>
          <p:nvPr/>
        </p:nvGraphicFramePr>
        <p:xfrm>
          <a:off x="228600" y="838080"/>
          <a:ext cx="8763120" cy="5961240"/>
        </p:xfrm>
        <a:graphic>
          <a:graphicData uri="http://schemas.openxmlformats.org/drawingml/2006/table">
            <a:tbl>
              <a:tblPr/>
              <a:tblGrid>
                <a:gridCol w="4381560"/>
                <a:gridCol w="4381560"/>
              </a:tblGrid>
              <a:tr h="59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sily moved around the classroom.</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 be very expensive for initial purchase of equipment and training as well as maintainence and upgrades.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f there is a 1:1 ration of students to laptops, teachers are able to conduct whole class lessons with all students being able to practice during the less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 sometimes be a distraction for other students.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reased student involvement and interaction.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quires increased monitoring by teachers to ensure that students are using them appropriately.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s students with a variety of tools and resources for learning.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 be under utilized or misused in classrooms where teachers do not buy into their usefullness as a teaching tool.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lows for differentiation of academic support depending on a student's needs.</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me teachers may take a "one size fits all" approach and neglect to use them a means of differentiating their instruction.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this age of technology, students understand and respond to electronic delivery of instruction.  It helps to excite them about learning.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1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rease student motivation as compared to schools that do not use laptops.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s computer and internet access for students who may not have these technologies at home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s students an opportunity for critical thinking, problem solving and developing research skills.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ardware/Software</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ardwa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0 Dell Inspiron 15 laptop computers (2 per classro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laptops will come with Windows 7 and will have Microsoft Office 2010 installed along with site licensed software such as SmartBoard and virus prote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sts and Funding</a:t>
            </a:r>
            <a:endParaRPr b="0" lang="en-US" sz="3200" spc="-1" strike="noStrike">
              <a:solidFill>
                <a:srgbClr val="ccecff"/>
              </a:solidFill>
              <a:latin typeface="Arial"/>
            </a:endParaRPr>
          </a:p>
        </p:txBody>
      </p:sp>
      <p:sp>
        <p:nvSpPr>
          <p:cNvPr id="221" name="PlaceHolder 2"/>
          <p:cNvSpPr>
            <a:spLocks noGrp="1"/>
          </p:cNvSpPr>
          <p:nvPr>
            <p:ph/>
          </p:nvPr>
        </p:nvSpPr>
        <p:spPr>
          <a:xfrm>
            <a:off x="456840" y="1143000"/>
            <a:ext cx="8534520" cy="4983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posed Cos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Cost of Laptops: $597.99 ea. X 5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ptops per classroom x 25 classrooms) = </a:t>
            </a:r>
            <a:r>
              <a:rPr b="0" lang="en-US" sz="2000" spc="-1" strike="noStrike">
                <a:solidFill>
                  <a:srgbClr val="99ff99"/>
                </a:solidFill>
                <a:latin typeface="Arial"/>
              </a:rPr>
              <a:t>$29899.50</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Cost of Proposed Software: $4997.50 + $2497.50 = </a:t>
            </a:r>
            <a:r>
              <a:rPr b="0" lang="en-US" sz="2000" spc="-1" strike="noStrike">
                <a:solidFill>
                  <a:srgbClr val="99ff99"/>
                </a:solidFill>
                <a:latin typeface="Arial"/>
              </a:rPr>
              <a:t>$7495.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Cost of Technology Initiative (Hardware and Software): </a:t>
            </a:r>
            <a:r>
              <a:rPr b="0" lang="en-US" sz="2000" spc="-1" strike="noStrike">
                <a:solidFill>
                  <a:srgbClr val="99ff99"/>
                </a:solidFill>
                <a:latin typeface="Arial"/>
              </a:rPr>
              <a:t>$ 37394.5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posed Fundin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nts (federal, private industr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Technology Fund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ion Funds Availa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Professional Development Mon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valuation</a:t>
            </a:r>
            <a:endParaRPr b="0" lang="en-US" sz="2800" spc="-1" strike="noStrike">
              <a:solidFill>
                <a:srgbClr val="ccecff"/>
              </a:solidFill>
              <a:latin typeface="Arial"/>
            </a:endParaRPr>
          </a:p>
        </p:txBody>
      </p:sp>
      <p:sp>
        <p:nvSpPr>
          <p:cNvPr id="223"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 data on assessments for both math and reading shared during grade level meetings each quarter.  Concerns about student achievement can be discussed and ideas can be shared about ways to utilize existing technology to address the educational needs of each student..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ers will keep a log of student and teacher use of technology and share with the team.  This will allow for discussion of additional ways to include technology in our lessons.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s will be required to sign in on a record sheet each time they access the computer.  This will allow the classroom teacher to track which students have been using the technology and identify if there need to be any changes to the current rotation.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lkthroughs will be used as informal observations and snapshots of technology being utilized in the classroom.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quarterly meeting will allow for a reflection of what is working and what might not be working and then brainstorming as a team as a team to help correct any problems that might arise. examining student achievement in both math and reading</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students in Kindergarten do not take part in the state wide testing, we would rely on the scores on the DIBELS (Dynamic Indicator of Basic Early Literacy Skills) test and the GATES-McGinite test, both of which are standardized and normed.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 performance on the quarterly math assessments, monthly writing prompts and any additional testing that the student may receiv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12:57:32Z</dcterms:created>
  <dc:creator>Melanie Day</dc:creator>
  <dc:description/>
  <dc:language>en-US</dc:language>
  <cp:lastModifiedBy>Melanie Day</cp:lastModifiedBy>
  <dcterms:modified xsi:type="dcterms:W3CDTF">2010-08-19T15:06:13Z</dcterms:modified>
  <cp:revision>2</cp:revision>
  <dc:subject/>
  <dc:title>Student Laptops to Improve Achievement</dc:title>
</cp:coreProperties>
</file>